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641-9C2F-460E-B5F8-296AF2463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463C-E016-4509-AB83-D77F94DA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D6D5-B87E-40F1-8DDF-15A29DD5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2403-5375-4E28-8CE9-9A8A4EBE0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6C32-7F20-44F6-AF3C-01E03EB4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794-935B-444B-B3C7-F6D8C944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1B33-4FF6-4CE7-BCA6-63E2E8C4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597-9B65-4C96-8D07-B2D4450EE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9BCA-836E-48BD-85DE-F925D284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6690-8222-4C19-B557-1A0AE64F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9D7E-06F8-415C-B810-F5B1C6AED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B783-AA8F-4CED-9237-6C5D7A050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14AF-48F3-463B-B193-198BF03A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F38-EA04-4CAD-885F-51939999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DE8B-F0C6-4C0A-B004-4F9515E1A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EF6-6D74-446C-8C16-ED0FA425F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5124-5D8D-4A17-9D8F-D4D48984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EF21-5ED3-4439-A97A-E7D50F6C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5D9D-9C2B-43EF-862C-3629472D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70F-B07C-4762-986A-F38CF2437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86D-6B88-4A24-A3BC-10D892FE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BFB1-6806-499A-B83C-68EBFBA4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6F2-035C-4BC2-BBE4-C3D6F14C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B36-28BC-421C-9161-36F54206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5BD-4014-4857-B5C4-E443982A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493-BD76-4C74-9C7B-220E5840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29A-6E34-4A16-A1C5-9EFB5B25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858-B29C-4C7C-9EFA-D1A5AA68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DD6-C900-4875-BA56-893BADC7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68D-8E49-4E3B-A1A8-A8A9EFEF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322-A80D-42C8-8F2F-44D16924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00F-BFEF-4ABD-BD05-D1B0794B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953-D846-40E4-A652-C30244D8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820-654B-431F-8F90-D0964E32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F5D-07E7-4CEA-87E8-819340FC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D808-0B3A-437E-8E44-4F7B22E6E4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Fall of the 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House of Ush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dgar Allan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oe"/>
          <p:cNvPicPr/>
          <p:nvPr/>
        </p:nvPicPr>
        <p:blipFill>
          <a:blip r:embed="rId1"/>
          <a:stretch/>
        </p:blipFill>
        <p:spPr>
          <a:xfrm>
            <a:off x="301680" y="152280"/>
            <a:ext cx="3056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ho Represents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ode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n artist figure (5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Nervous agitation (5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Lives in dark upstairs apartment (5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Cadaverous complexion (5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ant of moral energy” (5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xcessive nervous agitation” (5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Roderick’s mental condition is affected by hi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e was enchanted by certain superstitious impressions in regard to the dwelling which he tenanted . . . An effect which the 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physique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of the gray walls and turrets, and of the dim tarn into which they all looked down, had, at length, brought about upon the 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morale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of his existence.” (5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ere, “physique” refers to something phy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nd “morale” refers to something m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Roderick is all </a:t>
            </a:r>
            <a:r>
              <a:rPr b="1" lang="en-US" sz="3600" spc="-1" strike="noStrike">
                <a:solidFill>
                  <a:srgbClr val="000000"/>
                </a:solidFill>
                <a:latin typeface="Baskerville Old Face"/>
              </a:rPr>
              <a:t>mind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in a weak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e represents in one way the life of the isolated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uitar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Madel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llness has debilitated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ll descriptions focus on the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radual wasting away of the person” (5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Roderick and the narrator screw down the lid of her coffin (5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he returns from the tomb to reclaim her twin brother, her “dou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huge antique panels…threw back” (5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he “fell heavily inward upon…her brother and…bore him to the floor a corp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hat is Poe’s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oe addresses the dual and conflicted nature of the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Mind and body are at war with each other in each of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We try to repress one side and live with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But we cannot achieve a harmonious existence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Function of Setting - Ex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“house of Usher” has two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physic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family line, or line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entire family lay in the direct line of desc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house is also a type of character in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Like the family, it is of “an excessive antiquity” (5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landscape is overgrown and ra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On the front down the middle is “a barely perceptible fissure” going in “a zigzag direction” (5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Interior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Gothic architecture (5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indows were long, narrow and point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feeble gleams of encrimsoned ligh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dark draper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tmosphere of sorr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oderick lives upstairs (m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Madeleine is entombed below ground (bo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Structure and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oe creates texts within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Haunted Palace” (poem) reflects the Usher family life in the house (5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Mad Trist” (story) parallels Madeleine’s return from the 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storm outside is analogous to the turmoil inside the characters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book titles in Roderick’s library are symbolic of the themes of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Roderick’s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Chiromancy of Robert Flud, of Jean D’Indag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Directorium Inquisitoru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old African Satyrs, over which Usher would sit dreaming for hours” (516-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Fall of the House of Ush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gothic context of the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doubling motif of the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function of setting in the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structural unity of the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oe’s Theory of Literary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e earned his living as a “magazinist,” not a fiction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e was an editor and reviewer for many major magaz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e wrote a great deal of literary criticism, literary theory, and book re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is theory of literary unity was articulated in a review of Hawthorne’s collection of stories, 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Twice-Told Tales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n 18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uthor should “conceive, with deliberate care, a certain unique or single effect to be wrought out, [and] then invent such … events as may best aid him in establishing this preconceived eff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whole composition there should be no word written, of which the tendency, direct or indirect, is not to the one pre-established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Unity in “Fall of the House of Ush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rst and last paragraphs are mirror images of each other, creating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texts-within-text reinforce the central 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house itself symbolizes the split in th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construction of the house reflects a “perfect adaptation of parts” (5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Gothic literary tra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Begun in eighteenth century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Nove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orace Wal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nn Radcli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Matthew “Monk” Lew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pular form in British literary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mported into American short story - 19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Key ingredient was sens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othic Architecture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Started in US about 18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Steeply pitched 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inted arch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laborate trim around roof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High do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Lancet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goth_hs"/>
          <p:cNvPicPr/>
          <p:nvPr/>
        </p:nvPicPr>
        <p:blipFill>
          <a:blip r:embed="rId1"/>
          <a:stretch/>
        </p:blipFill>
        <p:spPr>
          <a:xfrm>
            <a:off x="685800" y="2747880"/>
            <a:ext cx="3809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Poe’s “house of Usher” looks more like a medieval castle or English cathedral in Gothic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athedral"/>
          <p:cNvPicPr/>
          <p:nvPr/>
        </p:nvPicPr>
        <p:blipFill>
          <a:blip r:embed="rId1"/>
          <a:stretch/>
        </p:blipFill>
        <p:spPr>
          <a:xfrm>
            <a:off x="947880" y="1981080"/>
            <a:ext cx="328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house might look something like this (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from a photograph by Simon Marsden in h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askerville Old Face"/>
              </a:rPr>
              <a:t>Visions of Poe</a:t>
            </a: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hillingham"/>
          <p:cNvPicPr/>
          <p:nvPr/>
        </p:nvPicPr>
        <p:blipFill>
          <a:blip r:embed="rId1"/>
          <a:stretch/>
        </p:blipFill>
        <p:spPr>
          <a:xfrm>
            <a:off x="685800" y="2532240"/>
            <a:ext cx="38098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lements of Gothic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mphasis on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xterior: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nterior: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astle-lik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haracters are brooding, secre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Buried family secr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Long history of family tied to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Doubling Mo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In literary criticism, this is called a “doppelganger,” from the German for “double-go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xamp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Dr. Jekyll and Mr. Hyde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(Robert Louis Steven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The Secret Sharer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(Joseph Conr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hat function does the doppelganger motif 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epresents the dual nature of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n Poe, one side of man is reason, or the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other is emotion, or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oderick and Madeleine are genetically twins, but psychologically they are also dou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9:08:43Z</dcterms:created>
  <dc:creator>James Hutchisson</dc:creator>
  <dc:description/>
  <dc:language>en-US</dc:language>
  <cp:lastModifiedBy>Angie McCall</cp:lastModifiedBy>
  <dcterms:modified xsi:type="dcterms:W3CDTF">2014-03-17T19:35:41Z</dcterms:modified>
  <cp:revision>5</cp:revision>
  <dc:subject/>
  <dc:title>“The Fall of the House of Usher”</dc:title>
</cp:coreProperties>
</file>